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8974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65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418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18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63BF1-D25A-41F3-A79E-0B3852BCBB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71600" y="763560"/>
            <a:ext cx="49021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763560"/>
            <a:ext cx="49021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5776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440" y="2229840"/>
            <a:ext cx="475776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44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9072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61280" y="84276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70120" y="84276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440" y="222984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61280" y="222984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70120" y="222984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5776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6375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5776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-46440"/>
            <a:ext cx="475128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6375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44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9072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440" y="2229840"/>
            <a:ext cx="475776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5776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9684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9376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Laptop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November 18,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218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48006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0"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ble builds have support for sleep on lid close or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-16 hours of battery life in sleep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“Extreme” power savings mode + additional power savings in sleep for non-mesh. (40+ hours of life in sle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559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Deployment Planning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6244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Locat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nee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schools, how many kids, and how many kids per school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school off power gri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hours of usage daily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climate and geography of deployment area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natural resources are availab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559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62440" cy="25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ying power can be a large and difficult challenge in a deployment.  Even in areas with a power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ck of an established grid increased the difficulty significant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recipe solutions. Each site is u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How Much Power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114800" cy="24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Primary modes of laptop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ing bat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harg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ing bat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 draw of 21 Wat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ser to 26 W w. power factor cor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ha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than 1 Watt in sleep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of 4 – 7 Watts while running w. peaks up to 9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25280"/>
            <a:ext cx="4952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How Much Time to Charge 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st with the Laptop off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ower used to charge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hour 46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ptop 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ss power used to charge batte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2 and half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Individual solar panel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ing maximum output (full su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the lap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W charges laptop in 5 hours 15 minu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W charges laptop in 3 hours 45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W charges laptop in 2 hours 40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1120" y="20016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8080"/>
                </a:solidFill>
                <a:latin typeface="Arial"/>
              </a:rPr>
              <a:t>Alternative</a:t>
            </a: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 Power Sourc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0760" y="777600"/>
            <a:ext cx="4937040" cy="26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ividual S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 Watt solar pa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for smallest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ntralized S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gh initial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rge solar panel arrays and charge ctl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 battery storage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erters to minimize distribution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517680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8080"/>
                </a:solidFill>
                <a:latin typeface="Arial"/>
              </a:rPr>
              <a:t>Alternative Power Sources</a:t>
            </a:r>
            <a:endParaRPr b="1" lang="en-US" sz="26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ill needs 2 hours of cran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viable with existing XO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rox 30 Watt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Ah Lead Acid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ll charge 2 laptop batteries in 2 h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ass Ro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w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ter, Wind, Pedal,Tread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Multi-Battery Charg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s 15 batteries in 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0 Watt 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 Watt DC option (10 – 28 Volt inp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Batteries in 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ion to 2 x 60W solar blanke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in Febr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John Watlington</cp:lastModifiedBy>
  <dcterms:modified xsi:type="dcterms:W3CDTF">2008-11-18T16:35:00Z</dcterms:modified>
  <cp:revision>2</cp:revision>
  <dc:subject/>
  <dc:title>One Laptop per Child</dc:title>
</cp:coreProperties>
</file>